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54B47-36C4-4665-A58F-E770182FC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B507E-6D49-49AA-A080-EC15725D9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060A3-0887-4077-9F13-2E3ABBEA9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71B11-BE5A-49DC-B6EF-F9C8DE023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82BF6-4492-4FE6-BAAD-922E7224D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C988E-C899-4F92-BF5E-8754C27E1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FB52D-FC47-4ABE-9E89-7AF5C5A78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30028-883A-426D-8050-05117F73E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703DD-FD39-4300-B5B8-7374984C3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49C05-FCF9-4542-89CB-FC54CB25A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5A77B-D0C5-41B6-867D-96EB262B8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34434-A4D2-4350-A507-961F9618D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7E498-70F1-4F28-BC55-BAAB38F531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380880" y="533520"/>
            <a:ext cx="8329680" cy="6097320"/>
            <a:chOff x="380880" y="533520"/>
            <a:chExt cx="8329680" cy="6097320"/>
          </a:xfrm>
        </p:grpSpPr>
        <p:pic>
          <p:nvPicPr>
            <p:cNvPr id="42" name="" descr=""/>
            <p:cNvPicPr/>
            <p:nvPr/>
          </p:nvPicPr>
          <p:blipFill>
            <a:blip r:embed="rId1"/>
            <a:stretch/>
          </p:blipFill>
          <p:spPr>
            <a:xfrm>
              <a:off x="380880" y="533520"/>
              <a:ext cx="8329680" cy="609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479160" y="3049200"/>
              <a:ext cx="866880" cy="852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346040" y="3120840"/>
              <a:ext cx="3352680" cy="3428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622760" y="3735000"/>
              <a:ext cx="761760" cy="2819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5308560" y="3963600"/>
              <a:ext cx="609480" cy="2590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765760" y="5030640"/>
              <a:ext cx="609480" cy="152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994360" y="6097320"/>
              <a:ext cx="914400" cy="456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184120" y="3049200"/>
              <a:ext cx="914400" cy="456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1897200" y="0"/>
            <a:ext cx="574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les of Ecological Organ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410080" y="55627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Times New Roman"/>
              </a:rPr>
              <a:t>Organ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642920" y="45720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op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86920" y="3733920"/>
            <a:ext cx="173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972880" y="3124080"/>
            <a:ext cx="155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Times New Roman"/>
              </a:rPr>
              <a:t>Eco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104480" y="3048120"/>
            <a:ext cx="148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Times New Roman"/>
              </a:rPr>
              <a:t>Biosp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1066680"/>
            <a:ext cx="937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 Production of sexual mechanisms and devi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196920"/>
            <a:ext cx="81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Other costs of sexual reproduc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2746440" y="1676520"/>
            <a:ext cx="365436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685800" y="196920"/>
            <a:ext cx="81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Other costs of sexual reproduc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0" y="990720"/>
            <a:ext cx="937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 mating behavi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831960" y="1600200"/>
            <a:ext cx="3130560" cy="39625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384336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990720" y="1676520"/>
            <a:ext cx="7391160" cy="51624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685800" y="196920"/>
            <a:ext cx="81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Other costs of sexual reproduc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0" y="990720"/>
            <a:ext cx="937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 disease transmis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990720"/>
            <a:ext cx="937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. female escape from preda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85800" y="196920"/>
            <a:ext cx="81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Other costs of sexual reproduc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2871720" y="1676520"/>
            <a:ext cx="345276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324648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Prudent predator hypothesi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-- to avoid depleting a food resource, an animal develops the behavior of restraint in fee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5800" y="196920"/>
            <a:ext cx="81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Group selec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-152280" y="1249200"/>
            <a:ext cx="9372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. A behavior that increases fitness of the population but decreases fitness of the individual. Not usually an evolutionary stable strategy (ES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-76320" y="5334120"/>
            <a:ext cx="9372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Prudent predator hypothesi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-- example where group selection is not a stable strateg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-76320" y="1066680"/>
            <a:ext cx="922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are in animals (parthenogenesi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1969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Asexual reproduc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2514600"/>
            <a:ext cx="92203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hids, weevi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ery few fish, amphibians, lizard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what more common in pla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365760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exual reproduction benefit may be more offsp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t the cost may be reduced variation in geno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-152280" y="1219320"/>
            <a:ext cx="9372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nefits of sexual reproduction must in general outweigh the costs because it is widespread (also true in past histor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52280" y="1522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Sexual versus asexual reproduc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11732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ased on the fact that a female chooses a ma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38080" y="196920"/>
            <a:ext cx="815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exual selec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52280" y="2286000"/>
            <a:ext cx="8991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sexual dimorphism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-- a difference in the outward appearance of males and fem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3916440"/>
            <a:ext cx="8991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. different sexual functions shape the body size of males and fema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52280" y="5516640"/>
            <a:ext cx="899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. male/male contests may favor weap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557280" y="836640"/>
            <a:ext cx="8028000" cy="51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838080" y="196920"/>
            <a:ext cx="815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exual selec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1066680"/>
            <a:ext cx="8991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. different sexual functions shape the body size of males and fema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52280" y="2849400"/>
            <a:ext cx="899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. male/male contests may favor weap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280" y="4145040"/>
            <a:ext cx="899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. choice by the opposite se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533520" y="1238400"/>
            <a:ext cx="8076960" cy="56196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457200" y="196920"/>
            <a:ext cx="81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he Evolution of Sexual Reproduc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496880" y="861840"/>
            <a:ext cx="6148440" cy="569124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838080" y="196920"/>
            <a:ext cx="815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exual selec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4649760" cy="403704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5029200" y="1905120"/>
            <a:ext cx="4114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oice by the opposite sex can lead to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runaway sexual sele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838080" y="196920"/>
            <a:ext cx="815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exual selec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838080" y="196920"/>
            <a:ext cx="815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exual selec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-152280" y="1371600"/>
            <a:ext cx="9372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.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handicap principl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-- if a male can have a trait that is not adaptive, it must be that the overall fitness is hig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3535200"/>
            <a:ext cx="8991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.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parasite-mediate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-- non adaptive trait is linked to unapparent adaptive fea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903320" y="938160"/>
            <a:ext cx="5335560" cy="569124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533520" y="196920"/>
            <a:ext cx="81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exual selec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57200" y="196920"/>
            <a:ext cx="81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Reproductive Succe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0" y="121932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eukaryotes: </a:t>
            </a: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sexual reproduct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s production of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gamete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by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meiosi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and then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syngam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4084560"/>
            <a:ext cx="84582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Femal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the form of the organism that carries the most provisioning for the offspring (i.e., the egg). All other "sexes" are by definition ma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-228600" y="1447920"/>
            <a:ext cx="9372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most important genetic consequence of sex: bringing together in a single cell genes from two parental cell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4084560"/>
            <a:ext cx="84582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process of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genetic recombinat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which occurs during meiosis also ensures that genes from different (but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homologou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chromosome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can be combined in a single chromoso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196920"/>
            <a:ext cx="81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Reproductive Succe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981080" y="2852640"/>
            <a:ext cx="5765760" cy="40053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457200" y="0"/>
            <a:ext cx="81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Asexual reproduc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9480" y="609480"/>
            <a:ext cx="83059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ither, fusing of haploid cells within an organism  to restores diploid st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r, reproduction with no meiosis, clo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52280" y="1143000"/>
            <a:ext cx="36576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pulations can evolve more rapidly to meet changed circumstances or develop new defenses against disea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5800" y="196920"/>
            <a:ext cx="81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Advantage of sex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4572000" y="1166760"/>
            <a:ext cx="3936960" cy="569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0" y="1447920"/>
            <a:ext cx="9372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 Sexual reproduction speeds up the accumulation of beneficial mutations in a single organis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96920"/>
            <a:ext cx="81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Advantage of sexual reproduc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-76320" y="3200400"/>
            <a:ext cx="9372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 Slowly reproducing organisms can speed up the response to a disease (Red Queen hypothesi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-76320" y="4952880"/>
            <a:ext cx="9372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 Genomes that accumulate mutations are ‘repaired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-152280" y="1447920"/>
            <a:ext cx="8991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 Cost of producing males -- halves the productive part of the popul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62120" y="196920"/>
            <a:ext cx="81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Disadvantage of sexual reproduc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-152280" y="3429000"/>
            <a:ext cx="9372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 Cost resulting from discarding half the genes -- no guarantee that male genes are better (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cost of meiosi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735120" y="861840"/>
            <a:ext cx="8028000" cy="531036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762120" y="196920"/>
            <a:ext cx="81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Disadvantage of sexual reproduc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7T00:30:50Z</dcterms:created>
  <dc:creator>Ted Schuur</dc:creator>
  <dc:description/>
  <dc:language>en-US</dc:language>
  <cp:lastModifiedBy>Ted Schuur</cp:lastModifiedBy>
  <dcterms:modified xsi:type="dcterms:W3CDTF">2005-10-09T23:54:14Z</dcterms:modified>
  <cp:revision>56</cp:revision>
  <dc:subject/>
  <dc:title>PowerPoint Presentation</dc:title>
</cp:coreProperties>
</file>